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8.wmf" ContentType="image/x-wmf"/>
  <Override PartName="/ppt/media/image3.jpeg" ContentType="image/jpeg"/>
  <Override PartName="/ppt/media/image30.png" ContentType="image/png"/>
  <Override PartName="/ppt/media/image27.wmf" ContentType="image/x-wmf"/>
  <Override PartName="/ppt/media/image24.png" ContentType="image/png"/>
  <Override PartName="/ppt/media/image11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23.png" ContentType="image/png"/>
  <Override PartName="/ppt/media/image13.jpeg" ContentType="image/jpeg"/>
  <Override PartName="/ppt/media/image33.wmf" ContentType="image/x-wmf"/>
  <Override PartName="/ppt/media/image36.wmf" ContentType="image/x-wmf"/>
  <Override PartName="/ppt/media/image9.jpeg" ContentType="image/jpeg"/>
  <Override PartName="/ppt/media/image37.wmf" ContentType="image/x-wmf"/>
  <Override PartName="/ppt/media/image31.png" ContentType="image/png"/>
  <Override PartName="/ppt/media/image40.wmf" ContentType="image/x-wmf"/>
  <Override PartName="/ppt/media/image7.jpeg" ContentType="image/jpeg"/>
  <Override PartName="/ppt/media/image42.wmf" ContentType="image/x-wmf"/>
  <Override PartName="/ppt/media/image39.png" ContentType="image/png"/>
  <Override PartName="/ppt/media/image43.jpeg" ContentType="image/jpeg"/>
  <Override PartName="/ppt/media/image41.wmf" ContentType="image/x-wmf"/>
  <Override PartName="/ppt/media/image38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34.png" ContentType="image/png"/>
  <Override PartName="/ppt/media/image5.jpeg" ContentType="image/jpeg"/>
  <Override PartName="/ppt/media/image20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media/image3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2AA-087B-46AE-914B-36E92BD6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74C6-25EF-496D-A0D7-F9BE63C1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D428-BCA9-436C-BF55-64644D2D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15BF-0653-421D-ABC4-FA90DD8D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176-0962-463C-AE74-F32E26E6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8434-DEDE-4434-A64D-A6B712C5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ED55-9B44-4956-9AAF-D435609A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7FB1-9974-4A57-BBAA-363AF6B1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4E47-BFE9-471D-BB97-78DEECB7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1CE-A41A-4933-9D7E-D71CBB72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C371-7842-405E-9456-4335EFCF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977-1997-49CB-ADBF-94651F55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D75E-581C-4AE5-B11A-35C032EC7603}" type="slidenum">
              <a:rPr b="0" lang="ko-KR" sz="1400" spc="-1" strike="noStrike">
                <a:solidFill>
                  <a:srgbClr val="ffffff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638680" cy="2845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164960" cy="1164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920" y="54864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28800" y="5410080"/>
            <a:ext cx="533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eam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ae-Hoon Ahn, Kyounghye Cheong, Leon Hen-tov, Sandra Lee,  Ted Ol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543800" y="380880"/>
            <a:ext cx="107964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467480" y="54864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80880" y="1395360"/>
            <a:ext cx="84582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ustomer Assump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Sale price per beer is $5.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Attendance is normally distribu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eekend: Mean = 47,663; Std Dev = 8,56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eekday: Mean = 38,172; Std Dev = 6,83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Number of beers consumed per person is normally distribu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ean = 1.5; Std Dev = 0.1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Percentage of population consuming beer is normally distribut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ean = 40%; Std Dev = 4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Vendor Assump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Each vendor works for 5 hours per game for $8/hr ($40 per gam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Cost per beer is $0.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Variable vendor costs of $200 per number of vendors is incurred each g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Fixed costs of $3,000 are incurred for each g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Vendors sell beers at 1 beer per minu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Vendors are occupied 80% of the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Max number of beers sold per vendor is 2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Solution Methodology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Use Crystal B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Random vari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Expected Attend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Expected % of Beer Drin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Expected average number of beers per beer drink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Forecast vari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rofit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% of demand m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Various number of vendor lev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verage Number of Beer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7920" y="1851120"/>
            <a:ext cx="64008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verage % of Beer Drinker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1628640"/>
            <a:ext cx="617220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verage Weekday Attendance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62940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olution Methodolog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day Mode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1595520"/>
            <a:ext cx="838224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day Result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177040" cy="2316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85582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eekday: Maximum Profit Level (115 vendor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655344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day: % of Demand Met at Maximum Profit Lev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15 vendor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2165400"/>
            <a:ext cx="62485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y are the Yankees so hated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879560"/>
            <a:ext cx="1155600" cy="1168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85080" y="1828800"/>
            <a:ext cx="1244520" cy="1231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505320" y="3327480"/>
            <a:ext cx="1562040" cy="1396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447920" y="3441600"/>
            <a:ext cx="1206360" cy="97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85800" y="4724280"/>
            <a:ext cx="1066680" cy="133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7086600" y="4876920"/>
            <a:ext cx="1219320" cy="1104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3124080" y="1905120"/>
            <a:ext cx="2210040" cy="650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5791320" y="3352680"/>
            <a:ext cx="1143000" cy="992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581280" y="5194440"/>
            <a:ext cx="142236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day: % of Demand Met with 95% service lev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30 vendor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16292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day: Profit Level with   95% service lev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30 vendor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2075040"/>
            <a:ext cx="693396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day Profit vs. Service Leve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76480" y="1447920"/>
            <a:ext cx="6789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verage Weekend Attendance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716292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olution Methodolog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end Mode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1547640"/>
            <a:ext cx="84582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end Result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7925040" cy="2408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82296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eekend: Maximum Profit Level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30 vendor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9961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end: % of Demand Met at Maximum Profit Lev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30 vendor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52560" y="1905120"/>
            <a:ext cx="55389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end: % of Demand Met with 95% service lev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45 vendor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85800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end: Profit Level with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95% service lev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45 vendor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1629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Not enough beer vendors!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71920" y="2362320"/>
            <a:ext cx="1079280" cy="1625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6680" y="2362320"/>
            <a:ext cx="1079640" cy="1625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570720" y="2438280"/>
            <a:ext cx="175248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29360" y="426708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83080" y="4267080"/>
            <a:ext cx="140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re 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25720" y="2692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21120" y="2666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70720" y="4276800"/>
            <a:ext cx="158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happy F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03440" y="2387520"/>
            <a:ext cx="965160" cy="1498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11240" y="27241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1960" y="4267080"/>
            <a:ext cx="13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m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eer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ekend Profit vs. Service Leve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76480" y="1447920"/>
            <a:ext cx="6789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cus on Servic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ximum Profi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ekday Ga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15 vendors (mean profit $76,30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ekend Ga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30 vendors (mean profit $90,74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95% Servic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ekday Ga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30 vendors (mean profit $74,78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ekend Ga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45 vendors (mean profit $89,74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imitations of the Model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Advance Ticket Sales will reduce forecast error in attendance estim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orporate weather foreca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der other factors such as who the Yankees are playing, who’s pitching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k fan beer consumption habits by inning and section (Upper v. Lower Deck,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ers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3281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nagerial Problem Defini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Determine the optimal number of beer vendors at Yankee Stadium to maximize profits while maintaining an acceptable level of serv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Formula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The optimal number of beer vend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The minimum % of demand m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Maximize profits while maintaining the acceptable level of serv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onstrai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tadium capacity is 57,47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he acceptable level of service is approximately 95%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he total # of beers sold cannot exceed the maximum # of beers each vendor could sel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ax Beers =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굴림"/>
              </a:rPr>
              <a:t>Σ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굴림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굴림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where 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  <a:ea typeface="굴림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= # of beer vend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nd y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  <a:ea typeface="굴림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= max number of beers sold per vend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he total number of vendors must be an integ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003 Season Attendanc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14520" y="1143000"/>
          <a:ext cx="7995960" cy="53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1143000"/>
                    <a:ext cx="799596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verage % of Total Capacity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00600" y="1405080"/>
            <a:ext cx="2322360" cy="522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1905120" y="1405080"/>
          <a:ext cx="2084400" cy="5224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405080"/>
                    <a:ext cx="20844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Tahoma"/>
                <a:ea typeface="굴림"/>
              </a:rPr>
              <a:t>Weekend vs. Weekday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105520" y="1852560"/>
          <a:ext cx="3352680" cy="4319640"/>
        </p:xfrm>
        <a:graphic>
          <a:graphicData uri="http://schemas.openxmlformats.org/drawingml/2006/table">
            <a:tbl>
              <a:tblPr/>
              <a:tblGrid>
                <a:gridCol w="1236600"/>
                <a:gridCol w="222120"/>
                <a:gridCol w="1893960"/>
              </a:tblGrid>
              <a:tr h="5068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Weekend Attend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M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      </a:t>
                      </a:r>
                      <a:r>
                        <a:rPr b="0" lang="ko-KR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47,6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32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Std 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8,5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30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Weekday Attend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M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      </a:t>
                      </a:r>
                      <a:r>
                        <a:rPr b="0" lang="ko-KR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38,17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Std 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       </a:t>
                      </a:r>
                      <a:r>
                        <a:rPr b="0" lang="ko-KR" sz="2000" spc="-1" strike="noStrike">
                          <a:solidFill>
                            <a:srgbClr val="ffffff"/>
                          </a:solidFill>
                          <a:latin typeface="Tahoma"/>
                          <a:ea typeface="굴림"/>
                        </a:rPr>
                        <a:t>6,83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5268960" y="380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66680" y="1447920"/>
          <a:ext cx="307656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307656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8:19:20Z</dcterms:created>
  <dc:creator>Sandra Lee</dc:creator>
  <dc:description/>
  <dc:language>en-US</dc:language>
  <cp:lastModifiedBy>Kyounghye (Kay) Cheong</cp:lastModifiedBy>
  <dcterms:modified xsi:type="dcterms:W3CDTF">2004-04-26T18:50:04Z</dcterms:modified>
  <cp:revision>159</cp:revision>
  <dc:subject/>
  <dc:title>Beer Here…..</dc:title>
</cp:coreProperties>
</file>